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37738"/>
        <c:axId val="75679154"/>
      </c:barChart>
      <c:catAx>
        <c:axId val="64437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9154"/>
        <c:crosses val="autoZero"/>
        <c:auto val="1"/>
        <c:lblAlgn val="ctr"/>
        <c:lblOffset val="100"/>
        <c:noMultiLvlLbl val="0"/>
      </c:catAx>
      <c:valAx>
        <c:axId val="75679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7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2AD-8855-488C-AFCC-7E23582A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6EF-D85F-46F1-9B01-7257890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C2B-0E03-43B7-BF54-4483E636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A57-3BB9-4432-9450-8F4D64ED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90A-1F37-4728-A05C-B295386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D1A-E48B-423B-83CB-B4CEDE78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81F-C7BC-4FEC-B201-030B9FF6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E9D-C8D6-430D-9069-5ADA0C60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9E6-58A1-4712-9DD6-78B29990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CE5-C0C6-4609-AF15-B63BA1DE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D3A-CCFF-49A1-9098-C564EF5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572-7715-480D-9DB1-ACBCC8D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8564-2D36-4168-809D-52E4362B8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