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68203"/>
        <c:axId val="97936532"/>
      </c:barChart>
      <c:catAx>
        <c:axId val="59168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36532"/>
        <c:crosses val="autoZero"/>
        <c:auto val="1"/>
        <c:lblAlgn val="ctr"/>
        <c:lblOffset val="100"/>
        <c:noMultiLvlLbl val="0"/>
      </c:catAx>
      <c:valAx>
        <c:axId val="97936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68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0DA-885E-407C-9547-FA14C70B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820-725A-487D-A143-C017C4F6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126-428B-488A-9256-4A687630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006-B21C-48C8-8071-C35AA00D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2BC-428B-47C3-92EB-9CE70C45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297-D1C7-490D-8DD5-5007E1A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054-6693-4822-9F2E-09C8F501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F2F-9F74-4863-9BC3-A0854352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037-72D5-4DDC-AD06-A7E26464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2FF-370D-4AFF-8F3F-177B22F4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941-6BF1-4173-B37F-E17C35CF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C8B-1DC2-48CA-BABC-F69C486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09954-4001-4212-9CCE-0279B6D8A8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